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12E-BA10-4FED-948C-CA9497F4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7B0-1EDA-485E-B208-8F7811A6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7DC-3EC2-4B16-9884-29AFEA5C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7BA-A92F-4BA0-8352-CE79733B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EA7-834E-4F86-97CD-12E3FE6A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736-B36E-4BE6-A0BC-DBC84B1D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241-F194-4184-A3F8-655C18F3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D31-B22A-4EBD-9F74-29FF314E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3E1-F0FF-4EA5-8BA2-318BBACF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544-C26D-4CBB-A216-E03866A4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5AA-1FDE-4960-B27D-4686E0B0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CA1-201E-4979-8350-623C98C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2481-2E06-40FF-A249-D0A8D3DDD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08480"/>
            <a:ext cx="4572000" cy="34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54440" y="5648400"/>
            <a:ext cx="500040" cy="312840"/>
          </a:xfrm>
          <a:prstGeom prst="flowChartAlternateProcess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68840" y="5680080"/>
            <a:ext cx="47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P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5" idx="2"/>
            <a:endCxn id="42" idx="0"/>
          </p:cNvCxnSpPr>
          <p:nvPr/>
        </p:nvCxnSpPr>
        <p:spPr>
          <a:xfrm>
            <a:off x="3898080" y="5160240"/>
            <a:ext cx="106920" cy="48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6" name=""/>
          <p:cNvCxnSpPr>
            <a:stCxn id="47" idx="0"/>
            <a:endCxn id="48" idx="2"/>
          </p:cNvCxnSpPr>
          <p:nvPr/>
        </p:nvCxnSpPr>
        <p:spPr>
          <a:xfrm flipH="1" flipV="1" rot="5400000">
            <a:off x="782640" y="5743080"/>
            <a:ext cx="238320" cy="10800"/>
          </a:xfrm>
          <a:prstGeom prst="curvedConnector3">
            <a:avLst>
              <a:gd name="adj1" fmla="val 23146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9" name=""/>
          <p:cNvCxnSpPr>
            <a:stCxn id="50" idx="2"/>
            <a:endCxn id="51" idx="3"/>
          </p:cNvCxnSpPr>
          <p:nvPr/>
        </p:nvCxnSpPr>
        <p:spPr>
          <a:xfrm rot="5400000">
            <a:off x="2748600" y="4726440"/>
            <a:ext cx="778680" cy="38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2" name=""/>
          <p:cNvCxnSpPr>
            <a:stCxn id="53" idx="3"/>
            <a:endCxn id="54" idx="1"/>
          </p:cNvCxnSpPr>
          <p:nvPr/>
        </p:nvCxnSpPr>
        <p:spPr>
          <a:xfrm>
            <a:off x="1170000" y="4255200"/>
            <a:ext cx="265320" cy="99360"/>
          </a:xfrm>
          <a:prstGeom prst="curvedConnector3">
            <a:avLst>
              <a:gd name="adj1" fmla="val 26902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5" name=""/>
          <p:cNvCxnSpPr>
            <a:stCxn id="56" idx="2"/>
            <a:endCxn id="50" idx="3"/>
          </p:cNvCxnSpPr>
          <p:nvPr/>
        </p:nvCxnSpPr>
        <p:spPr>
          <a:xfrm rot="5400000">
            <a:off x="3663720" y="4087080"/>
            <a:ext cx="419760" cy="239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7" name=""/>
          <p:cNvCxnSpPr>
            <a:stCxn id="58" idx="3"/>
            <a:endCxn id="59" idx="0"/>
          </p:cNvCxnSpPr>
          <p:nvPr/>
        </p:nvCxnSpPr>
        <p:spPr>
          <a:xfrm>
            <a:off x="1181160" y="4808160"/>
            <a:ext cx="594720" cy="3578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61" idx="3"/>
            <a:endCxn id="59" idx="1"/>
          </p:cNvCxnSpPr>
          <p:nvPr/>
        </p:nvCxnSpPr>
        <p:spPr>
          <a:xfrm flipV="1">
            <a:off x="1328760" y="5281200"/>
            <a:ext cx="235440" cy="19872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2" name=""/>
          <p:cNvCxnSpPr>
            <a:stCxn id="51" idx="2"/>
            <a:endCxn id="63" idx="0"/>
          </p:cNvCxnSpPr>
          <p:nvPr/>
        </p:nvCxnSpPr>
        <p:spPr>
          <a:xfrm flipH="1" rot="16200000">
            <a:off x="2458080" y="5551200"/>
            <a:ext cx="236880" cy="52560"/>
          </a:xfrm>
          <a:prstGeom prst="curvedConnector3">
            <a:avLst>
              <a:gd name="adj1" fmla="val 26940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4" name=""/>
          <p:cNvSpPr/>
          <p:nvPr/>
        </p:nvSpPr>
        <p:spPr>
          <a:xfrm>
            <a:off x="3745080" y="3741840"/>
            <a:ext cx="496800" cy="27756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7040" y="3765600"/>
            <a:ext cx="45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6" idx="2"/>
            <a:endCxn id="67" idx="0"/>
          </p:cNvCxnSpPr>
          <p:nvPr/>
        </p:nvCxnSpPr>
        <p:spPr>
          <a:xfrm flipH="1" rot="16200000">
            <a:off x="3082680" y="4028400"/>
            <a:ext cx="397440" cy="99720"/>
          </a:xfrm>
          <a:prstGeom prst="curvedConnector3">
            <a:avLst>
              <a:gd name="adj1" fmla="val 25113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" name=""/>
          <p:cNvSpPr/>
          <p:nvPr/>
        </p:nvSpPr>
        <p:spPr>
          <a:xfrm>
            <a:off x="468360" y="5340240"/>
            <a:ext cx="877680" cy="289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9800" y="5364000"/>
            <a:ext cx="85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reci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60520" y="4213080"/>
            <a:ext cx="565200" cy="304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34960" y="4238640"/>
            <a:ext cx="61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09960" y="5670720"/>
            <a:ext cx="982440" cy="304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66760" y="5695920"/>
            <a:ext cx="107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ee Cash F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71" idx="3"/>
            <a:endCxn id="63" idx="1"/>
          </p:cNvCxnSpPr>
          <p:nvPr/>
        </p:nvCxnSpPr>
        <p:spPr>
          <a:xfrm flipV="1">
            <a:off x="1303200" y="5811480"/>
            <a:ext cx="763920" cy="228600"/>
          </a:xfrm>
          <a:prstGeom prst="curvedConnector3">
            <a:avLst>
              <a:gd name="adj1" fmla="val 25695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" name=""/>
          <p:cNvCxnSpPr>
            <a:stCxn id="63" idx="3"/>
            <a:endCxn id="42" idx="1"/>
          </p:cNvCxnSpPr>
          <p:nvPr/>
        </p:nvCxnSpPr>
        <p:spPr>
          <a:xfrm flipV="1">
            <a:off x="3138480" y="5805000"/>
            <a:ext cx="616320" cy="6840"/>
          </a:xfrm>
          <a:prstGeom prst="curvedConnector3">
            <a:avLst>
              <a:gd name="adj1" fmla="val 24196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1" name=""/>
          <p:cNvSpPr/>
          <p:nvPr/>
        </p:nvSpPr>
        <p:spPr>
          <a:xfrm>
            <a:off x="2157480" y="5160960"/>
            <a:ext cx="785880" cy="298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5184720"/>
            <a:ext cx="855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h F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8" idx="2"/>
            <a:endCxn id="51" idx="0"/>
          </p:cNvCxnSpPr>
          <p:nvPr/>
        </p:nvCxnSpPr>
        <p:spPr>
          <a:xfrm flipH="1" rot="16200000">
            <a:off x="1825200" y="4435920"/>
            <a:ext cx="643320" cy="807480"/>
          </a:xfrm>
          <a:prstGeom prst="curvedConnector3">
            <a:avLst>
              <a:gd name="adj1" fmla="val 24916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5" name=""/>
          <p:cNvCxnSpPr>
            <a:stCxn id="59" idx="3"/>
            <a:endCxn id="73" idx="1"/>
          </p:cNvCxnSpPr>
          <p:nvPr/>
        </p:nvCxnSpPr>
        <p:spPr>
          <a:xfrm>
            <a:off x="1987560" y="5281200"/>
            <a:ext cx="136800" cy="19440"/>
          </a:xfrm>
          <a:prstGeom prst="curvedConnector3">
            <a:avLst>
              <a:gd name="adj1" fmla="val 24802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7" name=""/>
          <p:cNvSpPr/>
          <p:nvPr/>
        </p:nvSpPr>
        <p:spPr>
          <a:xfrm>
            <a:off x="2943360" y="4276800"/>
            <a:ext cx="774720" cy="288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09880" y="4300560"/>
            <a:ext cx="84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6400" y="4662360"/>
            <a:ext cx="621000" cy="297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bdbd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8880" y="4692600"/>
            <a:ext cx="69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x 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41560" y="3573360"/>
            <a:ext cx="579600" cy="30636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40120" y="354960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s Volu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710160"/>
            <a:ext cx="617400" cy="27756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76480" y="3733920"/>
            <a:ext cx="58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oyal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8" idx="2"/>
            <a:endCxn id="51" idx="0"/>
          </p:cNvCxnSpPr>
          <p:nvPr/>
        </p:nvCxnSpPr>
        <p:spPr>
          <a:xfrm flipH="1" rot="16200000">
            <a:off x="1871640" y="4482000"/>
            <a:ext cx="1173600" cy="18468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1" name=""/>
          <p:cNvSpPr/>
          <p:nvPr/>
        </p:nvSpPr>
        <p:spPr>
          <a:xfrm>
            <a:off x="488880" y="5869080"/>
            <a:ext cx="814320" cy="34128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7680" y="5867280"/>
            <a:ext cx="7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pital Inves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9960" y="4097160"/>
            <a:ext cx="770040" cy="31608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8120" y="407340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erating Co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8" idx="2"/>
            <a:endCxn id="59" idx="0"/>
          </p:cNvCxnSpPr>
          <p:nvPr/>
        </p:nvCxnSpPr>
        <p:spPr>
          <a:xfrm flipH="1" rot="16200000">
            <a:off x="1435680" y="4825440"/>
            <a:ext cx="648000" cy="32760"/>
          </a:xfrm>
          <a:prstGeom prst="curvedConnector3">
            <a:avLst>
              <a:gd name="adj1" fmla="val 257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50" idx="1"/>
            <a:endCxn id="84" idx="0"/>
          </p:cNvCxnSpPr>
          <p:nvPr/>
        </p:nvCxnSpPr>
        <p:spPr>
          <a:xfrm flipV="1" rot="10800000">
            <a:off x="1779480" y="4416120"/>
            <a:ext cx="1130760" cy="726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4" name=""/>
          <p:cNvSpPr/>
          <p:nvPr/>
        </p:nvSpPr>
        <p:spPr>
          <a:xfrm>
            <a:off x="1555920" y="5141880"/>
            <a:ext cx="447480" cy="289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3840" y="5165640"/>
            <a:ext cx="4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1360" y="6494400"/>
            <a:ext cx="279360" cy="152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44640" y="6470640"/>
            <a:ext cx="676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82560" y="6492960"/>
            <a:ext cx="277920" cy="15408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17640" y="6470640"/>
            <a:ext cx="676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54120" y="6491160"/>
            <a:ext cx="265320" cy="1573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bdbd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5840" y="6470640"/>
            <a:ext cx="676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63760" y="6504120"/>
            <a:ext cx="268560" cy="152280"/>
          </a:xfrm>
          <a:prstGeom prst="flowChartAlternateProcess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3160" y="6480000"/>
            <a:ext cx="676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iter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94080" y="4890960"/>
            <a:ext cx="938160" cy="297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bdbd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97320" y="4929120"/>
            <a:ext cx="100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4627440" y="3498840"/>
            <a:ext cx="4449960" cy="3303720"/>
            <a:chOff x="4627440" y="3498840"/>
            <a:chExt cx="4449960" cy="3303720"/>
          </a:xfrm>
        </p:grpSpPr>
        <p:sp>
          <p:nvSpPr>
            <p:cNvPr id="648" name=""/>
            <p:cNvSpPr/>
            <p:nvPr/>
          </p:nvSpPr>
          <p:spPr>
            <a:xfrm>
              <a:off x="4627440" y="3498840"/>
              <a:ext cx="4449960" cy="330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37080" y="3724200"/>
              <a:ext cx="3448080" cy="2414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03960" y="613872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03960" y="590400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03960" y="565632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03960" y="541980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03960" y="517356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03960" y="493704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03960" y="468936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03960" y="44546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03960" y="420696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03960" y="397188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03960" y="372420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5437080" y="6138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6010200" y="6138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6583320" y="6138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167600" y="613836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738920" y="6138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8312040" y="6138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885160" y="6138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729400" y="5173200"/>
              <a:ext cx="2808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6010200" y="5038200"/>
              <a:ext cx="29232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6302520" y="4892400"/>
              <a:ext cx="28080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6583320" y="4757400"/>
              <a:ext cx="29232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6875640" y="4611600"/>
              <a:ext cx="2919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167600" y="4465440"/>
              <a:ext cx="27936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446960" y="4308120"/>
              <a:ext cx="2919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738920" y="4162320"/>
              <a:ext cx="2811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8020080" y="4005360"/>
              <a:ext cx="29196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5729400" y="5319360"/>
              <a:ext cx="280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010200" y="5173560"/>
              <a:ext cx="29232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6302520" y="5038200"/>
              <a:ext cx="2808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6583320" y="4892400"/>
              <a:ext cx="29232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6875640" y="4735080"/>
              <a:ext cx="2919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7167600" y="4589280"/>
              <a:ext cx="27936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446960" y="4431960"/>
              <a:ext cx="2919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7738920" y="4274640"/>
              <a:ext cx="2811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8020080" y="4118040"/>
              <a:ext cx="29196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5729400" y="5465520"/>
              <a:ext cx="280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6010200" y="5319720"/>
              <a:ext cx="29232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302520" y="5173560"/>
              <a:ext cx="2808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6583320" y="5016600"/>
              <a:ext cx="29232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875640" y="4870440"/>
              <a:ext cx="2919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167600" y="4712760"/>
              <a:ext cx="2793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446960" y="4554000"/>
              <a:ext cx="29196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738920" y="4385880"/>
              <a:ext cx="28116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8020080" y="4217760"/>
              <a:ext cx="29196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729400" y="5611680"/>
              <a:ext cx="28080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6010200" y="5465520"/>
              <a:ext cx="29232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6302520" y="5308200"/>
              <a:ext cx="28080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6583320" y="5151600"/>
              <a:ext cx="29232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875640" y="4992480"/>
              <a:ext cx="29196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167600" y="4835160"/>
              <a:ext cx="2793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446960" y="4667040"/>
              <a:ext cx="29196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738920" y="4498920"/>
              <a:ext cx="28116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8020080" y="4330440"/>
              <a:ext cx="29196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5729400" y="5757840"/>
              <a:ext cx="28080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010200" y="5600880"/>
              <a:ext cx="29232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302520" y="5441760"/>
              <a:ext cx="28080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6583320" y="5284440"/>
              <a:ext cx="29232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6875640" y="5127120"/>
              <a:ext cx="2919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7167600" y="4959000"/>
              <a:ext cx="27936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446960" y="4790880"/>
              <a:ext cx="29196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7738920" y="4622760"/>
              <a:ext cx="28116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8020080" y="4443480"/>
              <a:ext cx="2919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998240" y="60609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98240" y="58244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98240" y="5576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998240" y="53420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98240" y="50943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7976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042880" y="4611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42880" y="4375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42880" y="4129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42880" y="3892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42880" y="3645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403600" y="624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76720" y="624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48040" y="624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32320" y="624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705440" y="624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45080" y="624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818200" y="624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75000" y="647532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16200000">
              <a:off x="3810960" y="4864320"/>
              <a:ext cx="20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Free Cash Flow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27440" y="3498840"/>
              <a:ext cx="4449960" cy="3303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407080" y="391788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407080" y="40543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407080" y="4192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406720" y="4329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06720" y="4464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437080" y="4935600"/>
              <a:ext cx="345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"/>
          <p:cNvGrpSpPr/>
          <p:nvPr/>
        </p:nvGrpSpPr>
        <p:grpSpPr>
          <a:xfrm>
            <a:off x="57240" y="3479760"/>
            <a:ext cx="4514760" cy="3316320"/>
            <a:chOff x="57240" y="3479760"/>
            <a:chExt cx="4514760" cy="3316320"/>
          </a:xfrm>
        </p:grpSpPr>
        <p:sp>
          <p:nvSpPr>
            <p:cNvPr id="741" name=""/>
            <p:cNvSpPr/>
            <p:nvPr/>
          </p:nvSpPr>
          <p:spPr>
            <a:xfrm>
              <a:off x="57240" y="3479760"/>
              <a:ext cx="4514760" cy="331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77760" y="3659040"/>
              <a:ext cx="3270240" cy="2471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47880" y="6130800"/>
              <a:ext cx="2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47880" y="5781600"/>
              <a:ext cx="2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947880" y="541980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47880" y="507060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947880" y="4719600"/>
              <a:ext cx="2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47880" y="437040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47880" y="401004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47880" y="3659040"/>
              <a:ext cx="2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977760" y="613044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1522440" y="61304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065320" y="61304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2619360" y="61304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3162240" y="613044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3705120" y="613044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248000" y="613044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5680" y="5894280"/>
              <a:ext cx="26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1522440" y="5882760"/>
              <a:ext cx="2761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798560" y="5883120"/>
              <a:ext cx="26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2065320" y="5872320"/>
              <a:ext cx="27612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341440" y="5872320"/>
              <a:ext cx="27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2619360" y="5859360"/>
              <a:ext cx="266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86120" y="5859360"/>
              <a:ext cx="276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3162240" y="5847840"/>
              <a:ext cx="266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29000" y="5848200"/>
              <a:ext cx="276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1255680" y="5454720"/>
              <a:ext cx="26676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522440" y="5419440"/>
              <a:ext cx="2761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798560" y="5397480"/>
              <a:ext cx="26676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2065320" y="5363640"/>
              <a:ext cx="2761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2341440" y="5328720"/>
              <a:ext cx="2779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619360" y="5306760"/>
              <a:ext cx="26676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886120" y="5273280"/>
              <a:ext cx="2761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3162240" y="5238360"/>
              <a:ext cx="26676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429000" y="5204880"/>
              <a:ext cx="2761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255680" y="5013360"/>
              <a:ext cx="26676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1522440" y="4968720"/>
              <a:ext cx="27612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1798560" y="4911840"/>
              <a:ext cx="2667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2065320" y="4855680"/>
              <a:ext cx="27612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341440" y="4799160"/>
              <a:ext cx="27792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619360" y="4743000"/>
              <a:ext cx="26676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886120" y="4686480"/>
              <a:ext cx="27612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162240" y="4619520"/>
              <a:ext cx="26676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29000" y="4551120"/>
              <a:ext cx="27612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255680" y="4573440"/>
              <a:ext cx="26676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522440" y="4505040"/>
              <a:ext cx="27612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798560" y="4427640"/>
              <a:ext cx="26676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065320" y="4347720"/>
              <a:ext cx="27612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341440" y="4268880"/>
              <a:ext cx="27792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2619360" y="4178160"/>
              <a:ext cx="26676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886120" y="4087440"/>
              <a:ext cx="27612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3162240" y="3998520"/>
              <a:ext cx="2667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3429000" y="3908160"/>
              <a:ext cx="27612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4840" y="6051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2080" y="5702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2080" y="5340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2080" y="4991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2080" y="4641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2080" y="4290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2080" y="3930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2080" y="3581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47520" y="623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491840" y="623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34720" y="623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88760" y="623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30200" y="623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42840" y="623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87520" y="623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44400" y="646920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200000">
              <a:off x="-637560" y="4771800"/>
              <a:ext cx="196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orking Capital Required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846600" y="576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46600" y="5138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46600" y="4483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776760" y="3827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506520" y="1224000"/>
            <a:ext cx="6073560" cy="3930480"/>
            <a:chOff x="506520" y="1224000"/>
            <a:chExt cx="6073560" cy="3930480"/>
          </a:xfrm>
        </p:grpSpPr>
        <p:sp>
          <p:nvSpPr>
            <p:cNvPr id="816" name=""/>
            <p:cNvSpPr/>
            <p:nvPr/>
          </p:nvSpPr>
          <p:spPr>
            <a:xfrm>
              <a:off x="3736800" y="3873600"/>
              <a:ext cx="444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6520" y="1224000"/>
              <a:ext cx="6073560" cy="393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070520" y="1633680"/>
              <a:ext cx="1352520" cy="90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568520" y="1573200"/>
              <a:ext cx="1352520" cy="90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33560" y="3873600"/>
              <a:ext cx="1352520" cy="90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jec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1" name=""/>
            <p:cNvCxnSpPr>
              <a:stCxn id="819" idx="2"/>
              <a:endCxn id="822" idx="0"/>
            </p:cNvCxnSpPr>
            <p:nvPr/>
          </p:nvCxnSpPr>
          <p:spPr>
            <a:xfrm>
              <a:off x="2244600" y="2479680"/>
              <a:ext cx="845280" cy="136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3" name=""/>
            <p:cNvCxnSpPr>
              <a:stCxn id="818" idx="2"/>
              <a:endCxn id="816" idx="0"/>
            </p:cNvCxnSpPr>
            <p:nvPr/>
          </p:nvCxnSpPr>
          <p:spPr>
            <a:xfrm flipH="1">
              <a:off x="3958560" y="2541600"/>
              <a:ext cx="788040" cy="1332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2" name=""/>
            <p:cNvSpPr/>
            <p:nvPr/>
          </p:nvSpPr>
          <p:spPr>
            <a:xfrm>
              <a:off x="2867040" y="3843360"/>
              <a:ext cx="444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31960" y="4071960"/>
              <a:ext cx="92376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1771200" y="4200480"/>
              <a:ext cx="105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90640" y="4476600"/>
              <a:ext cx="10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52640" y="39528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33560" y="423864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19360" y="28656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86200" y="28656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80120" y="4075200"/>
              <a:ext cx="92376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210200" y="4200480"/>
              <a:ext cx="10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29280" y="4476600"/>
              <a:ext cx="104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390920" y="3952800"/>
              <a:ext cx="71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71840" y="4238640"/>
              <a:ext cx="71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49320" y="3490920"/>
            <a:ext cx="4478400" cy="3319560"/>
            <a:chOff x="49320" y="3490920"/>
            <a:chExt cx="4478400" cy="3319560"/>
          </a:xfrm>
        </p:grpSpPr>
        <p:sp>
          <p:nvSpPr>
            <p:cNvPr id="837" name=""/>
            <p:cNvSpPr/>
            <p:nvPr/>
          </p:nvSpPr>
          <p:spPr>
            <a:xfrm>
              <a:off x="49320" y="3490920"/>
              <a:ext cx="4478400" cy="331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9280" y="3730680"/>
              <a:ext cx="3578040" cy="236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89040" y="609120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89040" y="585144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89040" y="562284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9040" y="538308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9040" y="514512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9040" y="49053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9040" y="46767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9040" y="443700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9040" y="419724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9040" y="39704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89040" y="373068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1928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122868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173844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24784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76876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327816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378792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429732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19280" y="5263920"/>
              <a:ext cx="509400" cy="69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1228680" y="4784760"/>
              <a:ext cx="509760" cy="47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1738440" y="4449240"/>
              <a:ext cx="5094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2247840" y="4209840"/>
              <a:ext cx="52092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2768760" y="4028760"/>
              <a:ext cx="50940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3278160" y="3897360"/>
              <a:ext cx="5097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8440" y="600696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7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8440" y="576756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8440" y="554040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8440" y="53006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8440" y="506088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8440" y="482112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88440" y="459252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8160" y="4352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9480" y="41133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9480" y="3886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29480" y="3646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936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14912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5852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6828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8740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66560" y="6199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75960" y="6199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87160" y="6199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38400" y="6450120"/>
              <a:ext cx="85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6200000">
              <a:off x="-259200" y="4861080"/>
              <a:ext cx="104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V(Existing-Ne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320" y="3490920"/>
              <a:ext cx="4478400" cy="3319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20720" y="4437000"/>
              <a:ext cx="357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1760400" y="546732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2309760" y="546732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41440" y="53974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23760" y="5210280"/>
              <a:ext cx="103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l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09720" y="5210280"/>
              <a:ext cx="103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urbi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49320" y="3481560"/>
            <a:ext cx="4478400" cy="3335040"/>
            <a:chOff x="49320" y="3481560"/>
            <a:chExt cx="4478400" cy="3335040"/>
          </a:xfrm>
        </p:grpSpPr>
        <p:sp>
          <p:nvSpPr>
            <p:cNvPr id="893" name=""/>
            <p:cNvSpPr/>
            <p:nvPr/>
          </p:nvSpPr>
          <p:spPr>
            <a:xfrm>
              <a:off x="49320" y="3481560"/>
              <a:ext cx="4478400" cy="33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9280" y="3684600"/>
              <a:ext cx="3578040" cy="2522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89040" y="620712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9040" y="592308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89040" y="564840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89040" y="53625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9040" y="508788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9040" y="48038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9040" y="45291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9040" y="424512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9040" y="39704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040" y="368460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719280" y="620712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1228680" y="620712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738440" y="620712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2247840" y="620712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768760" y="620712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3278160" y="620712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3787920" y="620712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297320" y="620712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9280" y="4040280"/>
              <a:ext cx="5094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28680" y="4132440"/>
              <a:ext cx="50976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738440" y="4254480"/>
              <a:ext cx="5094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247840" y="4457880"/>
              <a:ext cx="5209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68760" y="4773600"/>
              <a:ext cx="509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278160" y="5240160"/>
              <a:ext cx="509760" cy="7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8440" y="6135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7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8440" y="58514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8440" y="557676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8440" y="529128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8440" y="501660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88440" y="473220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88440" y="445788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8160" y="4173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9480" y="3898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9480" y="361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936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14912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5852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6828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68740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66560" y="6299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75960" y="6299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87160" y="6299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28520" y="6512040"/>
              <a:ext cx="1296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intenance Inf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16200000">
              <a:off x="-257760" y="4818240"/>
              <a:ext cx="104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V(Existing-Ne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320" y="3481560"/>
              <a:ext cx="4478400" cy="3335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1152360" y="531036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1701720" y="531036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33400" y="52401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1640" y="5068800"/>
              <a:ext cx="103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urbi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08080" y="5068800"/>
              <a:ext cx="103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l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0720" y="4243320"/>
              <a:ext cx="35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49320" y="3490920"/>
            <a:ext cx="4478400" cy="3319560"/>
            <a:chOff x="49320" y="3490920"/>
            <a:chExt cx="4478400" cy="3319560"/>
          </a:xfrm>
        </p:grpSpPr>
        <p:sp>
          <p:nvSpPr>
            <p:cNvPr id="947" name=""/>
            <p:cNvSpPr/>
            <p:nvPr/>
          </p:nvSpPr>
          <p:spPr>
            <a:xfrm>
              <a:off x="49320" y="3490920"/>
              <a:ext cx="4478400" cy="331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8800" y="3730680"/>
              <a:ext cx="3638520" cy="236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30360" y="609120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30360" y="582768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30360" y="556416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30360" y="530064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0360" y="503712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30360" y="478476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0360" y="452124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0360" y="425772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0360" y="39942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30360" y="373068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65880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17936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169848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221760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273852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325764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377676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29732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658800" y="5516640"/>
              <a:ext cx="52056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1179360" y="5179680"/>
              <a:ext cx="51912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1698480" y="4832280"/>
              <a:ext cx="51912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217600" y="4341960"/>
              <a:ext cx="730440" cy="49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2948040" y="4173480"/>
              <a:ext cx="30960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3257640" y="3957480"/>
              <a:ext cx="5191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8440" y="60069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8440" y="57434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88440" y="54799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88440" y="52164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88440" y="49528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9480" y="4700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9480" y="4437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9480" y="4173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29480" y="3909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29480" y="3646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924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09836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61892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3804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5716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147480" y="6199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666600" y="6199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87160" y="6199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58480" y="6450120"/>
              <a:ext cx="95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Inf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-259200" y="4861080"/>
              <a:ext cx="104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V(Existing-Ne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9320" y="3490920"/>
              <a:ext cx="4478400" cy="3319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0240" y="4782960"/>
              <a:ext cx="364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909720" y="5505480"/>
              <a:ext cx="2824200" cy="334440"/>
              <a:chOff x="909720" y="5505480"/>
              <a:chExt cx="2824200" cy="334440"/>
            </a:xfrm>
          </p:grpSpPr>
          <p:sp>
            <p:nvSpPr>
              <p:cNvPr id="996" name=""/>
              <p:cNvSpPr/>
              <p:nvPr/>
            </p:nvSpPr>
            <p:spPr>
              <a:xfrm flipH="1">
                <a:off x="1746360" y="5762520"/>
                <a:ext cx="58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2295720" y="5762520"/>
                <a:ext cx="58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327400" y="5692680"/>
                <a:ext cx="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909720" y="5505480"/>
                <a:ext cx="1038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furbis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695680" y="5505480"/>
                <a:ext cx="1038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pla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"/>
          <p:cNvGrpSpPr/>
          <p:nvPr/>
        </p:nvGrpSpPr>
        <p:grpSpPr>
          <a:xfrm>
            <a:off x="117360" y="3211560"/>
            <a:ext cx="5800680" cy="3533760"/>
            <a:chOff x="117360" y="3211560"/>
            <a:chExt cx="5800680" cy="3533760"/>
          </a:xfrm>
        </p:grpSpPr>
        <p:sp>
          <p:nvSpPr>
            <p:cNvPr id="1002" name=""/>
            <p:cNvSpPr/>
            <p:nvPr/>
          </p:nvSpPr>
          <p:spPr>
            <a:xfrm>
              <a:off x="117360" y="3211560"/>
              <a:ext cx="5800680" cy="35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93800" y="3411360"/>
              <a:ext cx="3066840" cy="2705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5640" y="61167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55640" y="57834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55640" y="54403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640" y="51069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55640" y="47642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5640" y="44308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55640" y="40878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5640" y="37544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5640" y="34113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793800" y="611640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308240" y="611640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1812960" y="611640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2327400" y="611640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2841480" y="611640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346560" y="611640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3860640" y="611640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08240" y="4554360"/>
              <a:ext cx="101916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327400" y="4621320"/>
              <a:ext cx="10191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1308240" y="4621320"/>
              <a:ext cx="10191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2327400" y="4106520"/>
              <a:ext cx="101916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1308240" y="4621320"/>
              <a:ext cx="101916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2327400" y="3639960"/>
              <a:ext cx="1019160" cy="9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308240" y="4221000"/>
              <a:ext cx="1019160" cy="4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327400" y="4621320"/>
              <a:ext cx="101916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08240" y="4554360"/>
              <a:ext cx="101916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27400" y="4621320"/>
              <a:ext cx="101916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308240" y="4554360"/>
              <a:ext cx="101916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27400" y="4621320"/>
              <a:ext cx="101916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08240" y="4554360"/>
              <a:ext cx="101916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327400" y="4621320"/>
              <a:ext cx="101916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08240" y="4354560"/>
              <a:ext cx="101916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327400" y="4621320"/>
              <a:ext cx="101916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1308240" y="4620960"/>
              <a:ext cx="10191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2327400" y="4601880"/>
              <a:ext cx="10191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308240" y="4573440"/>
              <a:ext cx="10191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27400" y="4621320"/>
              <a:ext cx="101916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308240" y="4602240"/>
              <a:ext cx="10191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27400" y="4621320"/>
              <a:ext cx="10191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08240" y="4621320"/>
              <a:ext cx="1019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27400" y="4621320"/>
              <a:ext cx="1019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08240" y="4583160"/>
              <a:ext cx="1019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27400" y="4621320"/>
              <a:ext cx="101916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79440" y="45259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298600" y="4592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17760" y="464976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279440" y="5221440"/>
              <a:ext cx="57240" cy="56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98600" y="4592520"/>
              <a:ext cx="57240" cy="57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317760" y="4078440"/>
              <a:ext cx="57240" cy="56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79440" y="600228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298600" y="4592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17760" y="3611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70080" y="4183200"/>
              <a:ext cx="950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 flipV="1">
              <a:off x="1279440" y="419220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8240" y="422100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1279440" y="422100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1308240" y="419220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289240" y="4583160"/>
              <a:ext cx="950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 flipV="1">
              <a:off x="2298600" y="459252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327400" y="462132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2298600" y="462132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327400" y="459252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08400" y="5011560"/>
              <a:ext cx="950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 flipV="1">
              <a:off x="3317760" y="502092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46560" y="504972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3317760" y="504972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3346560" y="502092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0080" y="4516560"/>
              <a:ext cx="950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1279440" y="452556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08240" y="455436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1279440" y="455436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1308240" y="452556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1308240" y="452556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08240" y="455436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89240" y="4583160"/>
              <a:ext cx="950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 flipV="1">
              <a:off x="2298600" y="459252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327400" y="462132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2298600" y="462132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2327400" y="459252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327400" y="459252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27400" y="46213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08400" y="4649760"/>
              <a:ext cx="950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 flipV="1">
              <a:off x="3317760" y="465912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68792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3317760" y="468792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346560" y="465912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3346560" y="46591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46560" y="46879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279440" y="452592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298600" y="4592520"/>
              <a:ext cx="572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17760" y="4659480"/>
              <a:ext cx="5724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270080" y="4516560"/>
              <a:ext cx="950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1308240" y="452556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308240" y="455436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279440" y="4554360"/>
              <a:ext cx="28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308240" y="455436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89240" y="4583160"/>
              <a:ext cx="950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327400" y="459252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27400" y="46213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2298600" y="462132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7400" y="462132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08400" y="4649760"/>
              <a:ext cx="950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3346560" y="46591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346560" y="46879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3317760" y="468792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346560" y="468792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308240" y="4344840"/>
              <a:ext cx="3780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327400" y="4611600"/>
              <a:ext cx="3780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46560" y="487836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79440" y="4630680"/>
              <a:ext cx="6660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298600" y="4611600"/>
              <a:ext cx="6660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17760" y="4592520"/>
              <a:ext cx="669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79440" y="454500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98600" y="4592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317760" y="464040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279440" y="4573440"/>
              <a:ext cx="57240" cy="57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98600" y="4592520"/>
              <a:ext cx="57240" cy="57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17760" y="4611600"/>
              <a:ext cx="57240" cy="57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279440" y="4592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98600" y="4592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317760" y="4592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279440" y="455436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298600" y="4592520"/>
              <a:ext cx="572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317760" y="4621320"/>
              <a:ext cx="57240" cy="56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59720" y="60404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59720" y="5707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59720" y="5364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59720" y="5030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31440" y="468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97880" y="4354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97880" y="4011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97880" y="3678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97880" y="3335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50520" y="62215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64960" y="62215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669680" y="62215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241360" y="6221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17280" y="6221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22000" y="6221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36440" y="6221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35920" y="6440400"/>
              <a:ext cx="116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centage chan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16200000">
              <a:off x="17280" y="4511160"/>
              <a:ext cx="61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, 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41720" y="3421080"/>
              <a:ext cx="1752480" cy="271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98960" y="353520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194000" y="350676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384440" y="3449520"/>
              <a:ext cx="79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98960" y="374508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94000" y="3716280"/>
              <a:ext cx="57240" cy="57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83360" y="3659040"/>
              <a:ext cx="93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res Harves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098960" y="394488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94000" y="391644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84800" y="385920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ce/Ac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98960" y="415440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 flipV="1">
              <a:off x="4194000" y="412560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22800" y="415440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4194000" y="415440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4222800" y="412560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384080" y="40687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bo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098960" y="436392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 flipV="1">
              <a:off x="4194000" y="433512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22800" y="436392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4194000" y="436392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4222800" y="433512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4222800" y="43351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22800" y="436392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384080" y="4278240"/>
              <a:ext cx="1425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 and 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98960" y="456408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94000" y="4535640"/>
              <a:ext cx="5724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384080" y="447840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098960" y="4773600"/>
              <a:ext cx="257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4222800" y="474480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222800" y="477360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4194000" y="477360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222800" y="47736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384440" y="4687920"/>
              <a:ext cx="94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or trai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098960" y="498312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22800" y="497376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384800" y="489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u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098960" y="519264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94000" y="5183280"/>
              <a:ext cx="669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84800" y="51069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lation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098960" y="539280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4000" y="536400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384080" y="530712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x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98960" y="560232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94000" y="5573880"/>
              <a:ext cx="57240" cy="5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384080" y="551664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s receiv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98960" y="5811840"/>
              <a:ext cx="257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4000" y="578340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383360" y="572616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sur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098960" y="6012000"/>
              <a:ext cx="257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4000" y="598320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384800" y="5925960"/>
              <a:ext cx="1151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 and marke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17360" y="3211560"/>
              <a:ext cx="5800680" cy="3533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54000" y="3471840"/>
            <a:ext cx="4459320" cy="3330720"/>
            <a:chOff x="54000" y="3471840"/>
            <a:chExt cx="4459320" cy="3330720"/>
          </a:xfrm>
        </p:grpSpPr>
        <p:sp>
          <p:nvSpPr>
            <p:cNvPr id="1198" name=""/>
            <p:cNvSpPr/>
            <p:nvPr/>
          </p:nvSpPr>
          <p:spPr>
            <a:xfrm>
              <a:off x="54000" y="3471840"/>
              <a:ext cx="4459320" cy="333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33400" y="3697200"/>
              <a:ext cx="3379680" cy="2428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01720" y="61261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01720" y="572148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01720" y="531648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01720" y="491184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01720" y="45068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01720" y="410220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01720" y="369720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833400" y="61257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1316160" y="6125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797120" y="6125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2278080" y="6125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2770200" y="6125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3251160" y="61257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3732120" y="61257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4213080" y="61257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1316160" y="5362560"/>
              <a:ext cx="480960" cy="52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1797120" y="4844880"/>
              <a:ext cx="48096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278080" y="4440240"/>
              <a:ext cx="49212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2770200" y="4124160"/>
              <a:ext cx="48096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3251160" y="3821040"/>
              <a:ext cx="48096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16880" y="60483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16880" y="56437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6880" y="52387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11920" y="4834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84000" y="4429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54760" y="4024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9720" y="3619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01360" y="622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14372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2468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10564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59776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07872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5968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04064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352600" y="646416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16200000">
              <a:off x="-27000" y="4830120"/>
              <a:ext cx="61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, 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4000" y="3471840"/>
              <a:ext cx="4459320" cy="3330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35200" y="4506840"/>
              <a:ext cx="337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49320" y="3462480"/>
            <a:ext cx="4462200" cy="3341520"/>
            <a:chOff x="49320" y="3462480"/>
            <a:chExt cx="4462200" cy="3341520"/>
          </a:xfrm>
        </p:grpSpPr>
        <p:sp>
          <p:nvSpPr>
            <p:cNvPr id="95" name=""/>
            <p:cNvSpPr/>
            <p:nvPr/>
          </p:nvSpPr>
          <p:spPr>
            <a:xfrm>
              <a:off x="49320" y="3462480"/>
              <a:ext cx="4462200" cy="334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7720" y="3727440"/>
              <a:ext cx="3475080" cy="2673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6800" y="5249880"/>
              <a:ext cx="90360" cy="85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96760" y="5249880"/>
              <a:ext cx="98640" cy="574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36800" y="5249880"/>
              <a:ext cx="88560" cy="596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65320" y="5249880"/>
              <a:ext cx="100080" cy="8730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05000" y="5249880"/>
              <a:ext cx="88920" cy="37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34960" y="4589640"/>
              <a:ext cx="98640" cy="660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73200" y="4132440"/>
              <a:ext cx="90360" cy="11174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03520" y="4100400"/>
              <a:ext cx="8892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33480" y="4100400"/>
              <a:ext cx="9864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71720" y="4100400"/>
              <a:ext cx="9036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01680" y="4100400"/>
              <a:ext cx="10008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41720" y="4100400"/>
              <a:ext cx="8856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70240" y="4100400"/>
              <a:ext cx="10008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9920" y="4100400"/>
              <a:ext cx="9036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39880" y="4100400"/>
              <a:ext cx="8892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68760" y="4100400"/>
              <a:ext cx="9972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8440" y="4100400"/>
              <a:ext cx="9036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38400" y="4100400"/>
              <a:ext cx="9864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8080" y="4100400"/>
              <a:ext cx="8892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06600" y="4100400"/>
              <a:ext cx="9072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36920" y="4175280"/>
              <a:ext cx="98280" cy="1074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76600" y="4175280"/>
              <a:ext cx="88920" cy="1074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05120" y="4175280"/>
              <a:ext cx="100080" cy="1074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44800" y="4175280"/>
              <a:ext cx="88920" cy="1074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5120" y="4175280"/>
              <a:ext cx="98280" cy="1074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3360" y="4175280"/>
              <a:ext cx="90360" cy="1074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6320" y="640080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6320" y="60166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6320" y="563400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6320" y="52498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6320" y="487836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320" y="44942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6320" y="4111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6320" y="3727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7720" y="5249880"/>
              <a:ext cx="3475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47720" y="5207040"/>
              <a:ext cx="14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414440" y="5207040"/>
              <a:ext cx="14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081160" y="5207040"/>
              <a:ext cx="18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749680" y="5207040"/>
              <a:ext cx="14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416400" y="5207040"/>
              <a:ext cx="14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094280" y="5207040"/>
              <a:ext cx="14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7800" y="63151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7800" y="59324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8000" y="55483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744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600" y="479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7400" y="4408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7400" y="4025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7400" y="3643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6960" y="5367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53680" y="5367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7440" y="5367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5600" y="5367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52320" y="5367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20840" y="5367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-212400" y="5040360"/>
              <a:ext cx="93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320" y="3462480"/>
              <a:ext cx="4462200" cy="334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0960" y="6438960"/>
              <a:ext cx="148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49320" y="3462480"/>
            <a:ext cx="4462200" cy="3341520"/>
            <a:chOff x="49320" y="3462480"/>
            <a:chExt cx="4462200" cy="3341520"/>
          </a:xfrm>
        </p:grpSpPr>
        <p:sp>
          <p:nvSpPr>
            <p:cNvPr id="156" name=""/>
            <p:cNvSpPr/>
            <p:nvPr/>
          </p:nvSpPr>
          <p:spPr>
            <a:xfrm>
              <a:off x="49320" y="3462480"/>
              <a:ext cx="4462200" cy="334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4320" y="3706920"/>
              <a:ext cx="3409920" cy="2692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4720" y="639936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4720" y="601488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4720" y="56293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4720" y="524520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4720" y="486108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4720" y="447660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4720" y="409248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4720" y="37069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4320" y="6014880"/>
              <a:ext cx="3409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14320" y="597204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471680" y="59720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127240" y="59720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782800" y="597204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438360" y="597204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094280" y="59720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84160" y="6024600"/>
              <a:ext cx="13032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14480" y="6078600"/>
              <a:ext cx="1285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3000" y="6141960"/>
              <a:ext cx="1285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1520" y="6227640"/>
              <a:ext cx="13032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401840" y="6195600"/>
              <a:ext cx="13788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539720" y="6089400"/>
              <a:ext cx="13032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670040" y="5971680"/>
              <a:ext cx="12852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798560" y="5854680"/>
              <a:ext cx="1303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928880" y="5737320"/>
              <a:ext cx="1285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57400" y="5619240"/>
              <a:ext cx="13968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197080" y="5502240"/>
              <a:ext cx="1285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325600" y="5384880"/>
              <a:ext cx="1285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454120" y="5276880"/>
              <a:ext cx="13032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584440" y="5159520"/>
              <a:ext cx="1285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712960" y="5041440"/>
              <a:ext cx="13032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843280" y="4924440"/>
              <a:ext cx="1378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981160" y="4807080"/>
              <a:ext cx="1303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111480" y="4689000"/>
              <a:ext cx="12852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40000" y="4582800"/>
              <a:ext cx="12852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368520" y="4465800"/>
              <a:ext cx="1303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498840" y="4359240"/>
              <a:ext cx="13824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637080" y="4251240"/>
              <a:ext cx="12996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767040" y="4144680"/>
              <a:ext cx="12852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895560" y="4038480"/>
              <a:ext cx="13032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025880" y="3931920"/>
              <a:ext cx="12852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65080" y="600408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3"/>
                  </a:lnTo>
                  <a:lnTo>
                    <a:pt x="12" y="27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93600" y="605628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2480" y="612144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52440" y="620712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3"/>
                  </a:lnTo>
                  <a:lnTo>
                    <a:pt x="12" y="27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80960" y="623880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1000" y="617364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4"/>
                  </a:lnTo>
                  <a:lnTo>
                    <a:pt x="12" y="2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49520" y="606744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79480" y="595008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4"/>
                  </a:lnTo>
                  <a:lnTo>
                    <a:pt x="12" y="2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8000" y="583236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36880" y="571500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76560" y="559764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06520" y="547992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4"/>
                  </a:lnTo>
                  <a:lnTo>
                    <a:pt x="12" y="2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35400" y="536256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4"/>
                  </a:lnTo>
                  <a:lnTo>
                    <a:pt x="12" y="2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63920" y="525636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3880" y="513864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3"/>
                  </a:lnTo>
                  <a:lnTo>
                    <a:pt x="12" y="27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22400" y="502128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62440" y="49039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3"/>
                  </a:lnTo>
                  <a:lnTo>
                    <a:pt x="12" y="27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90960" y="478620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20920" y="466884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3"/>
                  </a:lnTo>
                  <a:lnTo>
                    <a:pt x="12" y="27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49800" y="456264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78320" y="44449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3" y="0"/>
                  </a:moveTo>
                  <a:lnTo>
                    <a:pt x="25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18000" y="43369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4"/>
                  </a:lnTo>
                  <a:lnTo>
                    <a:pt x="12" y="2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46520" y="42307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6840" y="4124160"/>
              <a:ext cx="39600" cy="432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3"/>
                  </a:lnTo>
                  <a:lnTo>
                    <a:pt x="12" y="27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05360" y="40165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35320" y="390996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4"/>
                  </a:lnTo>
                  <a:lnTo>
                    <a:pt x="12" y="2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6200" y="6313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840" y="59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5800" y="5545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6000" y="5159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000" y="47750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6000" y="4390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000" y="4006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000" y="3622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53560" y="6132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0920" y="613260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26880" y="6132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73080" y="6132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28640" y="6132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84200" y="6132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-572760" y="5085000"/>
              <a:ext cx="165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Free Cash 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320" y="3462480"/>
              <a:ext cx="4462200" cy="334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20560" y="652140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4626000" y="3468600"/>
            <a:ext cx="4452840" cy="3328920"/>
            <a:chOff x="4626000" y="3468600"/>
            <a:chExt cx="4452840" cy="3328920"/>
          </a:xfrm>
        </p:grpSpPr>
        <p:sp>
          <p:nvSpPr>
            <p:cNvPr id="242" name=""/>
            <p:cNvSpPr/>
            <p:nvPr/>
          </p:nvSpPr>
          <p:spPr>
            <a:xfrm>
              <a:off x="4626000" y="3468600"/>
              <a:ext cx="4452840" cy="332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3743280"/>
              <a:ext cx="3444840" cy="2347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38720" y="60912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38720" y="57564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38720" y="542124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38720" y="508464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38720" y="47498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38720" y="44146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38720" y="40798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38720" y="37432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27220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65452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03720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1988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80400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18668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56936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95168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33436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71704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851440" y="5827680"/>
              <a:ext cx="1857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037200" y="5672160"/>
              <a:ext cx="19692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234120" y="5516640"/>
              <a:ext cx="1857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419880" y="5361120"/>
              <a:ext cx="19692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616800" y="5204880"/>
              <a:ext cx="187200" cy="1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804000" y="5060520"/>
              <a:ext cx="19692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000920" y="4905360"/>
              <a:ext cx="1857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186680" y="4749840"/>
              <a:ext cx="19692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383600" y="4594320"/>
              <a:ext cx="1857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7569360" y="4438800"/>
              <a:ext cx="1965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765920" y="4282560"/>
              <a:ext cx="185760" cy="1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951680" y="4127400"/>
              <a:ext cx="19692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148600" y="3971880"/>
              <a:ext cx="1857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09760" y="6006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17760" y="5672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52600" y="5337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87080" y="5002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87080" y="4665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87080" y="4330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87080" y="3995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87080" y="365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3836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104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516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8784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7016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5284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3552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1820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0052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8500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12520" y="6450120"/>
              <a:ext cx="161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ricity Price, USc/kWh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6200000">
              <a:off x="4164120" y="4899960"/>
              <a:ext cx="1355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, $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26000" y="3468600"/>
              <a:ext cx="4452840" cy="3328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55440" y="3468600"/>
            <a:ext cx="4451400" cy="3328920"/>
            <a:chOff x="55440" y="3468600"/>
            <a:chExt cx="4451400" cy="3328920"/>
          </a:xfrm>
        </p:grpSpPr>
        <p:sp>
          <p:nvSpPr>
            <p:cNvPr id="297" name=""/>
            <p:cNvSpPr/>
            <p:nvPr/>
          </p:nvSpPr>
          <p:spPr>
            <a:xfrm>
              <a:off x="55440" y="3468600"/>
              <a:ext cx="4451400" cy="332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6280" y="3745080"/>
              <a:ext cx="3101760" cy="2342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43000" y="527220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81200" y="5427720"/>
              <a:ext cx="35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2800" y="60879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2800" y="58723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2800" y="56674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2800" y="54514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2800" y="52354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2800" y="50198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800" y="48150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2800" y="45990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2800" y="43815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2800" y="41655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2800" y="396072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2800" y="37450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46280" y="6087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085760" y="6087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436760" y="6087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1776240" y="6087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127240" y="6087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467080" y="6087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817720" y="6087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157560" y="6087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508200" y="6087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848040" y="6087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260360" y="5667120"/>
              <a:ext cx="1764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436760" y="5524200"/>
              <a:ext cx="1746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1611360" y="5379840"/>
              <a:ext cx="16488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776240" y="5222520"/>
              <a:ext cx="1749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51200" y="5078160"/>
              <a:ext cx="1760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127240" y="4935240"/>
              <a:ext cx="1746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301840" y="4790880"/>
              <a:ext cx="1652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467080" y="4646520"/>
              <a:ext cx="1746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641680" y="4501800"/>
              <a:ext cx="1760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817720" y="4357440"/>
              <a:ext cx="1652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982960" y="4213080"/>
              <a:ext cx="1746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157560" y="4068360"/>
              <a:ext cx="1760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333600" y="3925440"/>
              <a:ext cx="1746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14920" y="6087960"/>
              <a:ext cx="66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14920" y="5751360"/>
              <a:ext cx="66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14920" y="5415120"/>
              <a:ext cx="66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14920" y="5078520"/>
              <a:ext cx="66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14920" y="4754520"/>
              <a:ext cx="66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14920" y="4417920"/>
              <a:ext cx="66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14920" y="4081320"/>
              <a:ext cx="66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14920" y="3745080"/>
              <a:ext cx="66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260360" y="5619240"/>
              <a:ext cx="17640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1436760" y="5451120"/>
              <a:ext cx="17460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611360" y="5295960"/>
              <a:ext cx="16488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776240" y="5151240"/>
              <a:ext cx="1749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951200" y="5006880"/>
              <a:ext cx="17604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2127240" y="4875120"/>
              <a:ext cx="1746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301840" y="4741920"/>
              <a:ext cx="165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467080" y="4622400"/>
              <a:ext cx="17460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641680" y="4501800"/>
              <a:ext cx="1760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817720" y="4381200"/>
              <a:ext cx="165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982960" y="4262040"/>
              <a:ext cx="17460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157560" y="4152960"/>
              <a:ext cx="1760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333600" y="4044960"/>
              <a:ext cx="17460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5080" y="6004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5080" y="5788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5080" y="55832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1840" y="5367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9720" y="5151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9720" y="4935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9720" y="4730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9720" y="4514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9720" y="4297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9720" y="4081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9720" y="3876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9720" y="3660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244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5228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0292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4276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9340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3324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8424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372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7472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1456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13440" y="6450120"/>
              <a:ext cx="161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ricity Price, USc/kWh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-406080" y="4897440"/>
              <a:ext cx="1355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, $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35160" y="60040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35160" y="5667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34800" y="53308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34800" y="4994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34800" y="4670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34800" y="4334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34800" y="39974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34800" y="3660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3606480" y="4874400"/>
              <a:ext cx="140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nal Rate of Retur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440" y="3468600"/>
              <a:ext cx="4451400" cy="3328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20920" y="3930480"/>
              <a:ext cx="55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24280" y="4084560"/>
              <a:ext cx="35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55440" y="3468600"/>
            <a:ext cx="4449960" cy="3328920"/>
            <a:chOff x="55440" y="3468600"/>
            <a:chExt cx="4449960" cy="3328920"/>
          </a:xfrm>
        </p:grpSpPr>
        <p:sp>
          <p:nvSpPr>
            <p:cNvPr id="394" name=""/>
            <p:cNvSpPr/>
            <p:nvPr/>
          </p:nvSpPr>
          <p:spPr>
            <a:xfrm>
              <a:off x="55440" y="3468600"/>
              <a:ext cx="4449960" cy="332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440" y="3468600"/>
              <a:ext cx="4449960" cy="332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1200" y="3708360"/>
              <a:ext cx="3471840" cy="2368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7720" y="60768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7720" y="57405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7720" y="54039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7720" y="50673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7720" y="47181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7720" y="43815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7720" y="40449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7720" y="37083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81200" y="60768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473120" y="60768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165400" y="60768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868480" y="60768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560760" y="60768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253040" y="60768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73120" y="3997440"/>
              <a:ext cx="69228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65400" y="5091120"/>
              <a:ext cx="703080" cy="52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68480" y="5619600"/>
              <a:ext cx="69228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6760" y="5992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4640" y="5656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4640" y="5319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4640" y="4983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4640" y="4633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5480" y="42973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5480" y="39607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5480" y="3624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1920" y="6184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83840" y="6184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44080" y="6184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47160" y="6184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39440" y="6184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31720" y="6184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09960" y="6437160"/>
              <a:ext cx="85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-480600" y="4871160"/>
              <a:ext cx="153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, $US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4624560" y="3479760"/>
            <a:ext cx="4456080" cy="3321000"/>
            <a:chOff x="4624560" y="3479760"/>
            <a:chExt cx="4456080" cy="3321000"/>
          </a:xfrm>
        </p:grpSpPr>
        <p:sp>
          <p:nvSpPr>
            <p:cNvPr id="431" name=""/>
            <p:cNvSpPr/>
            <p:nvPr/>
          </p:nvSpPr>
          <p:spPr>
            <a:xfrm>
              <a:off x="4624560" y="3479760"/>
              <a:ext cx="4456080" cy="332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13400" y="3710160"/>
              <a:ext cx="3243240" cy="2401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81720" y="61117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81720" y="57085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81720" y="53071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81720" y="49165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1720" y="451476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1720" y="411156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81720" y="371016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513400" y="611136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235560" y="6111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958080" y="611136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7678800" y="611136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8400960" y="6111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69080" y="4181400"/>
              <a:ext cx="366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35560" y="4410000"/>
              <a:ext cx="35568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91240" y="4629240"/>
              <a:ext cx="36684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58080" y="4859280"/>
              <a:ext cx="3556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3760" y="5087880"/>
              <a:ext cx="36504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78800" y="5318280"/>
              <a:ext cx="3556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034480" y="5537160"/>
              <a:ext cx="366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869080" y="5409720"/>
              <a:ext cx="36648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235560" y="5192640"/>
              <a:ext cx="35568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591240" y="4962240"/>
              <a:ext cx="36684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958080" y="4732200"/>
              <a:ext cx="3556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313760" y="4501800"/>
              <a:ext cx="36504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678800" y="4284720"/>
              <a:ext cx="35568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8034480" y="4054320"/>
              <a:ext cx="3664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79160" y="603108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79160" y="562932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42520" y="52261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66880" y="4835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83560" y="4433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20200" y="403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20200" y="36291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45640" y="62150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36120" y="6215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56840" y="6215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79360" y="6215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01520" y="6215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84840" y="6456240"/>
              <a:ext cx="93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ctor fe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4307400" y="4861080"/>
              <a:ext cx="107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24560" y="3479760"/>
              <a:ext cx="4456080" cy="3321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78600" y="3813120"/>
              <a:ext cx="13698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10280" y="3824280"/>
              <a:ext cx="120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 lost to owner i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08840" y="3997440"/>
              <a:ext cx="6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sourc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78600" y="5524560"/>
              <a:ext cx="16113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09200" y="5537160"/>
              <a:ext cx="163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 gained by contractor i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08840" y="5708520"/>
              <a:ext cx="6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sourc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18080" y="4917960"/>
              <a:ext cx="323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4627440" y="3478320"/>
            <a:ext cx="4448160" cy="3335400"/>
            <a:chOff x="4627440" y="3478320"/>
            <a:chExt cx="4448160" cy="3335400"/>
          </a:xfrm>
        </p:grpSpPr>
        <p:sp>
          <p:nvSpPr>
            <p:cNvPr id="482" name=""/>
            <p:cNvSpPr/>
            <p:nvPr/>
          </p:nvSpPr>
          <p:spPr>
            <a:xfrm>
              <a:off x="4627440" y="3478320"/>
              <a:ext cx="4448160" cy="333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29240" y="3714840"/>
              <a:ext cx="3411720" cy="283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19600" y="5337000"/>
              <a:ext cx="135000" cy="1003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34240" y="5224320"/>
              <a:ext cx="123840" cy="112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38800" y="5100480"/>
              <a:ext cx="135000" cy="236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3080" y="5089680"/>
              <a:ext cx="125640" cy="247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5089680"/>
              <a:ext cx="135000" cy="247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74080" y="5078520"/>
              <a:ext cx="123480" cy="258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77200" y="5078520"/>
              <a:ext cx="135000" cy="258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92920" y="5067360"/>
              <a:ext cx="123840" cy="269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96400" y="5067360"/>
              <a:ext cx="134640" cy="269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12120" y="5067360"/>
              <a:ext cx="123840" cy="269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15240" y="5045040"/>
              <a:ext cx="136800" cy="291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84960" y="65530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84960" y="61484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484960" y="574344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84960" y="533700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4960" y="493236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84960" y="452592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84960" y="412128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84960" y="37148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29240" y="5337000"/>
              <a:ext cx="3411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552924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584532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614844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6464160" y="5292360"/>
              <a:ext cx="18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76764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083360" y="5292360"/>
              <a:ext cx="18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386480" y="5292360"/>
              <a:ext cx="18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70256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00748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832176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8626320" y="5292360"/>
              <a:ext cx="18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894096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5686560" y="6227280"/>
              <a:ext cx="3045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5991120" y="5990760"/>
              <a:ext cx="31428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305400" y="5743440"/>
              <a:ext cx="30492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6610320" y="5482800"/>
              <a:ext cx="31608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6926400" y="5223960"/>
              <a:ext cx="3142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240680" y="4965840"/>
              <a:ext cx="30456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545240" y="4695840"/>
              <a:ext cx="31464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859880" y="4424400"/>
              <a:ext cx="30456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164440" y="4142880"/>
              <a:ext cx="31428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8478720" y="3850920"/>
              <a:ext cx="3049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64240" y="631656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4" y="0"/>
                  </a:moveTo>
                  <a:lnTo>
                    <a:pt x="28" y="15"/>
                  </a:lnTo>
                  <a:lnTo>
                    <a:pt x="14" y="29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69160" y="620388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4" y="0"/>
                  </a:moveTo>
                  <a:lnTo>
                    <a:pt x="28" y="15"/>
                  </a:lnTo>
                  <a:lnTo>
                    <a:pt x="14" y="29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83440" y="596736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0"/>
                  </a:moveTo>
                  <a:lnTo>
                    <a:pt x="29" y="15"/>
                  </a:lnTo>
                  <a:lnTo>
                    <a:pt x="14" y="29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88000" y="571968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4" y="0"/>
                  </a:moveTo>
                  <a:lnTo>
                    <a:pt x="28" y="15"/>
                  </a:lnTo>
                  <a:lnTo>
                    <a:pt x="14" y="29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02280" y="546084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0"/>
                  </a:moveTo>
                  <a:lnTo>
                    <a:pt x="29" y="14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18360" y="520236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23280" y="494352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37560" y="467352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0"/>
                  </a:moveTo>
                  <a:lnTo>
                    <a:pt x="29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42120" y="440208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4" y="0"/>
                  </a:moveTo>
                  <a:lnTo>
                    <a:pt x="28" y="14"/>
                  </a:lnTo>
                  <a:lnTo>
                    <a:pt x="14" y="29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456760" y="4121280"/>
              <a:ext cx="4572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0"/>
                  </a:moveTo>
                  <a:lnTo>
                    <a:pt x="29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761320" y="382752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4" y="0"/>
                  </a:moveTo>
                  <a:lnTo>
                    <a:pt x="28" y="15"/>
                  </a:lnTo>
                  <a:lnTo>
                    <a:pt x="14" y="29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2000" y="64641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22000" y="60580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22000" y="56530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36640" y="5246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66640" y="4842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66640" y="4437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066640" y="403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66640" y="362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5272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5764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7192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7648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9112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0684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0996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2604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3096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4524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704080" y="54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6200000">
              <a:off x="4163040" y="5102280"/>
              <a:ext cx="1392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e Cash Flow, $ 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10320" y="6035760"/>
              <a:ext cx="1386000" cy="4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67560" y="6114960"/>
              <a:ext cx="270000" cy="88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70680" y="6068880"/>
              <a:ext cx="89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67560" y="6384960"/>
              <a:ext cx="27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80240" y="636264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71400" y="629460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a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27440" y="3478320"/>
              <a:ext cx="4448160" cy="3335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4629240" y="3479760"/>
            <a:ext cx="4446360" cy="3306960"/>
            <a:chOff x="4629240" y="3479760"/>
            <a:chExt cx="4446360" cy="3306960"/>
          </a:xfrm>
        </p:grpSpPr>
        <p:sp>
          <p:nvSpPr>
            <p:cNvPr id="565" name=""/>
            <p:cNvSpPr/>
            <p:nvPr/>
          </p:nvSpPr>
          <p:spPr>
            <a:xfrm>
              <a:off x="4629240" y="3479760"/>
              <a:ext cx="4446360" cy="330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52920" y="3659040"/>
              <a:ext cx="3454560" cy="2462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18000" y="61214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18000" y="58723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18000" y="56246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18000" y="53881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8000" y="51386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18000" y="48909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18000" y="46418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18000" y="43941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18000" y="41562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18000" y="39085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18000" y="36590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5452920" y="612144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6027840" y="612144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603840" y="612144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180200" y="612144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754760" y="612144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331120" y="612144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907480" y="612144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746680" y="5951520"/>
              <a:ext cx="28116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6027840" y="5850000"/>
              <a:ext cx="29376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321600" y="5748480"/>
              <a:ext cx="2822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6603840" y="5635440"/>
              <a:ext cx="2937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897600" y="5533560"/>
              <a:ext cx="28260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7180200" y="5420880"/>
              <a:ext cx="2937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473960" y="5319720"/>
              <a:ext cx="280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754760" y="5206680"/>
              <a:ext cx="2937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8048520" y="5105520"/>
              <a:ext cx="2826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46680" y="5917680"/>
              <a:ext cx="2811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027840" y="5781240"/>
              <a:ext cx="2937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6321600" y="5624640"/>
              <a:ext cx="2822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6603840" y="5477040"/>
              <a:ext cx="2937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897600" y="5319360"/>
              <a:ext cx="28260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180200" y="5160600"/>
              <a:ext cx="29376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73960" y="4992480"/>
              <a:ext cx="28080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754760" y="4833720"/>
              <a:ext cx="29376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8048520" y="4664160"/>
              <a:ext cx="2826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5746680" y="5896080"/>
              <a:ext cx="28116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27840" y="5703840"/>
              <a:ext cx="29376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321600" y="5511600"/>
              <a:ext cx="28224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603840" y="5308200"/>
              <a:ext cx="29376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6897600" y="5105520"/>
              <a:ext cx="28260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180200" y="4890960"/>
              <a:ext cx="293760" cy="2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7473960" y="4674960"/>
              <a:ext cx="2808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754760" y="4449240"/>
              <a:ext cx="29376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8048520" y="4224240"/>
              <a:ext cx="2826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746680" y="5872320"/>
              <a:ext cx="2811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027840" y="5635440"/>
              <a:ext cx="29376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321600" y="5398920"/>
              <a:ext cx="282240" cy="23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6603840" y="5149800"/>
              <a:ext cx="29376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897600" y="4890600"/>
              <a:ext cx="28260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7180200" y="4619520"/>
              <a:ext cx="29376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73960" y="4348080"/>
              <a:ext cx="28080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754760" y="4065120"/>
              <a:ext cx="29376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8048520" y="3784680"/>
              <a:ext cx="28260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10840" y="60418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10840" y="57942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10840" y="55450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93800" y="530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56920" y="5059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56920" y="48117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56920" y="4562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56920" y="4314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6920" y="4078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56920" y="3828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56920" y="3581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17640" y="6222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94000" y="6222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70360" y="6222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44920" y="6222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21280" y="6222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262720" y="6222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838720" y="6222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98760" y="645948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6200000">
              <a:off x="3825000" y="4834080"/>
              <a:ext cx="20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Free Cash Flow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629240" y="3479760"/>
              <a:ext cx="4446360" cy="330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59400" y="5389560"/>
              <a:ext cx="345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74680" y="498780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74680" y="453708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74680" y="412740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74680" y="371628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8:47:04Z</dcterms:created>
  <dc:creator>Frank</dc:creator>
  <dc:description/>
  <dc:language>en-US</dc:language>
  <cp:lastModifiedBy>frank crundwell</cp:lastModifiedBy>
  <dcterms:modified xsi:type="dcterms:W3CDTF">2007-08-16T16:52:54Z</dcterms:modified>
  <cp:revision>28</cp:revision>
  <dc:subject/>
  <dc:title>PowerPoint Presentation</dc:title>
</cp:coreProperties>
</file>